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EDF8-31EE-4E35-A89A-D402D3DC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9A43-E6DC-4B98-BA7B-02087DE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19F7-1BD1-4E18-8383-3107FEF6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7154-0A49-4AB7-A100-9FDB165B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0EE-E3F5-43CD-926A-37EF88C8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1F3-0F2F-43CC-ABC5-72550D9F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1F5E-A3BC-47F6-93DE-BE4D8A8D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076F-C7D7-4E6A-B448-855085E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DAA-6585-49E2-ADD7-EE62B341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9962-9B23-4F71-9D1A-F10EA69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E641-7DF8-4958-8037-9BDE9D3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AB5C-6925-4A00-9941-39F20B48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030E-1589-43DD-8795-31B332B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219F-CCBA-409B-806E-24D013B7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1822-A9F2-4737-AEF6-C0D62819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56C1-B692-4C34-ADFE-377499FF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7ED-B996-4B3D-BB68-DBD474D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2E21-9FBE-4EFD-92AA-F5B81126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F142-003A-441C-8B20-CDA1127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571A-D954-4A94-8212-EA066668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787E-AB73-4D7C-A6E7-B00C6E10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71A8-69AD-4CAF-BE01-8722CE0D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898E-E2EA-48C4-95EB-0C74881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3FF3-EC72-4DBB-9FC2-9E494AD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8F7-D71D-47DA-9593-3B6ACEA6C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379-A68A-4C33-B42A-C6F8DC6C2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riting Features for the North Carolina 10</a:t>
            </a:r>
            <a:r>
              <a:rPr b="1" lang="en-US" sz="54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Grade Writing Test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mposition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c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riter establishes a main point that is cle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riter sticks to the main point throughout the compos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osition has a clear and strong sense of beginning, middle, and e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deas in the composition (within the entire composition and within the individual paragraphs progress logical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hor provides clear concrete details and comment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 must b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ufficien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elev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y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ing is flu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hor demonstrates strong word cho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hor uses a variety of strong sente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7:50:27Z</dcterms:created>
  <dc:creator>Dspence</dc:creator>
  <dc:description/>
  <dc:language>en-US</dc:language>
  <cp:lastModifiedBy>Dspence</cp:lastModifiedBy>
  <dcterms:modified xsi:type="dcterms:W3CDTF">2009-09-01T17:59:19Z</dcterms:modified>
  <cp:revision>2</cp:revision>
  <dc:subject/>
  <dc:title>Writing Features for the North Carolina 10th Grade Writing Tests</dc:title>
</cp:coreProperties>
</file>